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FC94-A3F2-43FA-B2EE-1AA1597E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A456-2B34-4A2F-B0E0-E787ECA7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0C2E-CE0D-45E8-9362-6035CE5B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B60C-0D45-47CA-A83D-CFE6A2D7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84E4-0250-409A-A9B5-E4A57F9B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748D-D910-4564-AC7B-9E5596F4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7E4C-44F4-4306-B84E-9ECEBE43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A86C-1DD0-4C88-909D-311A7202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2E3A-B927-46A5-8A2A-3F2C1A82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58C2-24F1-4ABD-8938-E4497AFE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9D46-FD3B-4FD5-AD24-7F3AF7AF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9825-B1E9-476C-B126-6AAEB363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164F-90C4-45B0-9BA2-BB03D61BC41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08000" y="3284280"/>
            <a:ext cx="543564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Arial"/>
                <a:cs typeface="????Boutros Rokaa"/>
              </a:rPr>
              <a:t>أَلمجدُ لك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066920" y="142920"/>
            <a:ext cx="4716360" cy="67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لمجدُ لك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يها المسي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بنُ ا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جسّدتَ لأجلِنا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40360" y="0"/>
            <a:ext cx="5003640" cy="127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نّي أبشركُ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فرحٍ عظي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ُلِدَ لنا مخلّص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هو المسيح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211280" y="189000"/>
            <a:ext cx="4716360" cy="67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لمجدُ لك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يها المسي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بنُ ا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جسّدتَ لأجلِنا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0" y="4005360"/>
            <a:ext cx="9144000" cy="162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3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الشعبُ السالِكُ في الظُلمَ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79640" y="3933720"/>
            <a:ext cx="5297400" cy="326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 أبصَرَ نوراً عظيما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211280" y="189000"/>
            <a:ext cx="4716360" cy="67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لمجدُ لك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يها المسي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بنُ ا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جسّدتَ لأجلِنا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5867280" cy="67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عُمْيُ يُبصِرون والموتى يقومون والأسرى يُطلَقون والمساكينُ يُبشَّرو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211280" y="189000"/>
            <a:ext cx="4716360" cy="67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لمجدُ لك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يها المسي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بنُ ا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جسّدتَ لأجلِنا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1:05:11Z</dcterms:created>
  <dc:creator>Charbel Azar</dc:creator>
  <dc:description/>
  <dc:language>en-US</dc:language>
  <cp:lastModifiedBy>ف</cp:lastModifiedBy>
  <dcterms:modified xsi:type="dcterms:W3CDTF">2006-07-11T10:22:57Z</dcterms:modified>
  <cp:revision>4</cp:revision>
  <dc:subject/>
  <dc:title>ألمجد لك</dc:title>
</cp:coreProperties>
</file>